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C8F-6EAD-4533-9EEE-92718444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BC1-B539-49A2-952B-9AE053B2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744-4996-4E16-BB69-A0258603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32E-6ACA-4B44-B2A6-F99D60AA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8E7C-A77A-4322-ADFA-938C5976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3CE6-D841-4A30-B1A0-88AC398F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E087-7986-4A70-8F69-30DA8FEE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64F0-34C9-4336-86FA-91C14231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C866-1645-4C58-9F22-2BA7B107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EF24-864A-42FD-A2D2-A09C2978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F18C-42BB-4D8C-8C8F-1C24472F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068-AA20-4327-9EFB-BB7CEA3F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D00D-244C-4A27-9FFE-A2D6FC32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4D02-2795-4A48-8B22-8E4330D2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161F-940E-424E-A560-B0D2CCCC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FF99-5ED1-4FC3-A0AC-E2180E0B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D530-8B5A-4040-9CC2-6CCB6CDB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7F6-F007-470A-B980-01A67476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038-7270-470C-BB0B-787D2C2E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DB7-7A75-4263-AE08-49C2949D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07F-E8CB-4B5D-A87C-72FF81F0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AAA-F8E6-4AEE-B74E-918A6121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9BF-A7E4-4607-9EC7-04C58B7F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5CC-F1FB-45AC-B669-0CFE69FE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PCECA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3-8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ctuación Licenciados en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09A6-25F0-468B-BCFA-963B9A1618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3/8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ctuacion Licenciados en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PCECA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838080" y="502920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icenciados en Administració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ámbitos de actuación de los profesiona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CPCE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o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SGAM: venta de ganado por televisión (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anader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gaconciertos de rock: Roger Waters 2012 (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ultur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IL (ex-Petrobas): adquisición (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etróle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gle- Motorola: fusión p/adquisición (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ecnologí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at-Chrysler: fusion p/adquisió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(automotríz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P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10760" y="2133720"/>
            <a:ext cx="482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chas gracias por escuchar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dudas? preguntas?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0040" y="3733920"/>
            <a:ext cx="273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osé María Bos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mbossio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32080" y="354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P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o marco global …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 una carrera de grado que junto con los Contadores, Lic. en Economía y Actuarios se integra dentro de las ciencias socia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PCE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rco legal…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Ley Nacional 20.488 establece y regula la actuación de los Contadores, Lic. en Economía, Actuarios y Lic. en Administración fijando cuales son las incumbencias (ámbito de actuación) de cada profes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PCE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rco real lo brinda el mercado a través de…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actividad independi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relación de dependenci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PCE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nde puedo trabajar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minitración públic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presas públicas,privadas, mixtas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ciones del tercer sector (fundaciones/asoc. Civil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stic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cenc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PCE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é taréas o funciones puedo hacer….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eño y organización de empres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aboración de  planes de negoci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ministración de Recursos Huma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ercialización /marke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dio ambi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ministración de propiedad de horizont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P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nz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ito judici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-administrador judici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arrollo e implementación de sistemas y procedimien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upues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ercio exterior, etc.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P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2309040" y="809640"/>
            <a:ext cx="4448160" cy="3914280"/>
            <a:chOff x="2309040" y="809640"/>
            <a:chExt cx="4448160" cy="3914280"/>
          </a:xfrm>
        </p:grpSpPr>
        <p:sp>
          <p:nvSpPr>
            <p:cNvPr id="166" name="_s10249"/>
            <p:cNvSpPr/>
            <p:nvPr/>
          </p:nvSpPr>
          <p:spPr>
            <a:xfrm flipV="1">
              <a:off x="4533840" y="2013120"/>
              <a:ext cx="0" cy="60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248"/>
            <p:cNvSpPr/>
            <p:nvPr/>
          </p:nvSpPr>
          <p:spPr>
            <a:xfrm>
              <a:off x="3916080" y="809640"/>
              <a:ext cx="1235520" cy="12038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Organización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276"/>
            <p:cNvSpPr/>
            <p:nvPr/>
          </p:nvSpPr>
          <p:spPr>
            <a:xfrm>
              <a:off x="5067360" y="3519000"/>
              <a:ext cx="536400" cy="30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275"/>
            <p:cNvSpPr/>
            <p:nvPr/>
          </p:nvSpPr>
          <p:spPr>
            <a:xfrm>
              <a:off x="5521680" y="3520080"/>
              <a:ext cx="1235520" cy="12038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mic Sans MS"/>
                </a:rPr>
                <a:t>Desarrol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Comic Sans MS"/>
                </a:rPr>
                <a:t>y consolid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257"/>
            <p:cNvSpPr/>
            <p:nvPr/>
          </p:nvSpPr>
          <p:spPr>
            <a:xfrm flipH="1">
              <a:off x="3463560" y="3517200"/>
              <a:ext cx="534960" cy="30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256"/>
            <p:cNvSpPr/>
            <p:nvPr/>
          </p:nvSpPr>
          <p:spPr>
            <a:xfrm>
              <a:off x="2309040" y="3519000"/>
              <a:ext cx="1235880" cy="12034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Concep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dea/negocio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247"/>
            <p:cNvSpPr/>
            <p:nvPr/>
          </p:nvSpPr>
          <p:spPr>
            <a:xfrm>
              <a:off x="3916080" y="2616480"/>
              <a:ext cx="1235520" cy="1203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cenciado e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18664200">
            <a:off x="2742840" y="2133000"/>
            <a:ext cx="1219320" cy="91440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3216600">
            <a:off x="4953240" y="2133360"/>
            <a:ext cx="1219320" cy="91440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PCE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que rubros tengo oportunidad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roindust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lt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ism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tronomí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lu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ogí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menta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í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rmacéu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P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8:18:04Z</dcterms:created>
  <dc:creator>pedro</dc:creator>
  <dc:description/>
  <dc:language>en-US</dc:language>
  <cp:lastModifiedBy>mcalvarez</cp:lastModifiedBy>
  <dcterms:modified xsi:type="dcterms:W3CDTF">2011-08-25T23:22:39Z</dcterms:modified>
  <cp:revision>20</cp:revision>
  <dc:subject/>
  <dc:title>Licenciados en Administración</dc:title>
</cp:coreProperties>
</file>